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FEBD8-DBCD-4349-ACDA-E4B4FC3CB3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B79B6-CE29-4B71-9169-92DEC400CF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D34DF-59E3-42E2-B4BA-8B2A60AEA1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9E168-73D7-4B84-891D-5E933F30FF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329E5-F4CE-4569-940A-9F7F566B5E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B6C0A-CAED-47CE-A45D-353ADECB76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7CBF3-5B7C-4C0B-94AA-040621E71F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FCD9F-B304-480C-BFE4-F1AA133824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704D0-DFF3-422F-8A80-7165B30B3A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B133E-348C-4F13-BCBB-DA8AD852B6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6D1BD-5C51-45B2-9ADD-8E05793469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BBEC9-4A03-4A32-9E0F-F415CA2246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A177E-C58C-4AF1-9509-A2F17C488D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9CBE0-95AA-4346-9A00-CB9726E0EF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A007F-72DC-4EA1-AC6B-2455CEC83B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3644E-B2F5-4061-AF32-CAA952FD95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2E028-83E1-4D00-BEB1-ACEA7FAB3C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5A772-33B3-4CB9-AD8C-BA61EC8227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F1C5D-A288-4936-9490-B23C865FF1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556A9-DDA7-46E5-AA32-2D912BFA51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FABDE-3A94-4C24-AE5B-FDDD4739A9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250C1-BB26-4AA8-A318-8EBE5F6517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478E-55B8-4555-A890-098A865B8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5D36-73B4-4B27-B9BC-6A89C2FE6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32CE-519B-4D09-9167-473131B4F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9395-B44F-438E-A928-B2F8CB192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6C462-AD94-4A3E-9729-0AD7222A5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BED4D-EB0A-49D8-9F66-433C9D797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31783-EE24-4336-8A75-1AFF5FA83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23916-2EE3-472C-85BA-B0D0BC58E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8ACD9-3ADD-4EDF-AA7E-32FC79B8A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9537F-5307-44FD-A853-517997503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70667-D837-48BD-BB1B-04F79A3A4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574D-99A3-4482-B462-DA799B0CF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6F745-8C24-472B-BB2C-E7ECA4AB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EE58D-1FB1-47E3-8068-2E0181C0E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90B85-2F5B-4A27-B307-BEA60A25F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18855-D66A-47AC-A872-56F28628E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F35D5-F929-4104-A188-54C564F50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400C-71AA-422B-A5B6-C684A676D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3522-260F-4B53-853C-02417767A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4368-F435-4712-A986-98B6393FA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8001-A706-4ED7-82DB-DA6061747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39E2-7D0F-49D0-8191-B97AAB04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9BC7-EF04-43DC-AEC3-63F5F8C47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E8B1-894D-42A4-B45E-96C286658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112B4-53BA-45FD-A3BB-46CEFA4F535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C07AF-21D4-4191-9B4F-D75BDA1DA3C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Study of Human Development (Lifesp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study of how and why people change over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ly, cognitively, psychologically, and soc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describe, explain, predict, and influence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ypes of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earch Desig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bservational Stud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tural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what people d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 hypothe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55920" y="2012760"/>
            <a:ext cx="3792600" cy="28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not generalize findin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ptive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dependent Variab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“variable” reflects change in val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ependent variabl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ipulated by the researc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pendent Varia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aries in response to what’s introduc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alue depends on the I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bject of the resear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me that variable: IV or DV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king causes cancer.”  (DV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n commit suicide more frequently than women.” (DV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ss declines with exercise.” (IV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41880" y="201780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e increases with education.” (DV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dying improves grades.” (IV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ucation reduces prejudices.” (IV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peri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ause and effec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for establishing cause and effec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V &amp; DV rel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V comes fir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outside ca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41880" y="2017800"/>
            <a:ext cx="3813120" cy="266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wthorne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ificial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se Stud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ding out as much as possible about a single cas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variety of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se Stud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ore unusual situ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 hypothe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41880" y="201780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firmation bia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rvey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k a standard set of questions to a sample of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rvey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reach man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telephone, mail, inter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41880" y="201780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f-re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sitive top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careful wor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exts of Human Development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ex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h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cial 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l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nocentr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ltural rela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condary/Content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ing information that has already been colle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su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lines in the ne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mes in advertising products for boys and gir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condary/Content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already coll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or quality data yields poor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a may not accurately reflect behavior/att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al Desig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-s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ed s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meas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itud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-sequent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ed s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file of U. S. Social Clas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pper class (1%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pper middle (14%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ddle class (30%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rking class (30%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rking poor (20%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class (5%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Context for Stage Theor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ge Theo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wer Assumptions and Understandin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mental dela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play between nature and nur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ity rather than chang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ges revisite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ges of Develop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natal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a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rly Childhoo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ddle Childhoo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olesc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rly Adulthoo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ddle Adulthoo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te Adulthoo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th and D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arch Metho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o we know what we k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roblems in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sonal knowled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what I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lieving is see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rmation bi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mpling bi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cientific Metho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antita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arch qu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iew previous stud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metho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duct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 resul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aw conclu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 fin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cientific Metho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alita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gin with broad inter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ent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her general inform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research ques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e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ore new id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rt fin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53341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1T10:52:45Z</dcterms:created>
  <dc:creator>Laura Overstreet</dc:creator>
  <dc:description/>
  <dc:language>en-US</dc:language>
  <cp:lastModifiedBy>Shireen</cp:lastModifiedBy>
  <dcterms:modified xsi:type="dcterms:W3CDTF">2012-11-03T19:14:43Z</dcterms:modified>
  <cp:revision>50</cp:revision>
  <dc:subject/>
  <dc:title>Life Span, Growth and Development</dc:title>
</cp:coreProperties>
</file>